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072-C579-488F-971C-F93721AC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F4A-DA2E-4A88-A15A-33F710FF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65547-AB99-45CF-89DD-D13D758B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90A13-48BB-4614-83D3-B9AC2B6E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0E038-D91F-4CF5-84AD-F78488A4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BA5F1-3EB3-49E1-AD57-E8914E9E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E5D22-B630-454C-95FF-B536FBCD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E0C82-FB4A-4EFC-977E-1D9306C7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D3ACC-5EE0-4EC9-B57F-58A63C1F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E109B-E22E-4547-BF36-9776E398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78FDC-614B-453F-933B-70CD93FE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61BC7-1053-44A9-A3DF-F44123D9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3A8-5258-4467-B2D6-CE9BA0BA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ED610-AB41-43D3-9E96-7C4CC693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74AEB-72F7-452C-AD12-14FAE3E7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AF0E7-0470-42D1-A73E-22CE4599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52480-AC0A-42B1-B27B-67937188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B251E-477F-443E-A2CC-1B6161EB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06EC9-4AA4-43A0-9F2E-8AE5A7A4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AE016-EC49-444C-8C2F-2D99C153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025D0-B2C2-4456-8EC0-0BCE2AFB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4CC1B-33F9-466B-B607-21E406F3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7BBAD-F316-45F5-B64D-54F577B4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D46-BBF9-49E4-98EE-11201AB7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B3332-4B38-407F-86CF-31B1BB3C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62FC7-2C27-4FAD-862C-E2245358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D6822-5ABF-4BD4-B440-C5D61C60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5B238-249A-46B7-86D0-47E2ED8B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D5B26-4F3D-48AF-B325-51A009CA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00A3A-39F4-4DFA-A764-19E9C23B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7B190-357A-488E-931C-2C773687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DD5E9-A702-4640-8B0F-411D674D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31E9E-13FB-4507-B91C-B5EB6516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D481F-0419-4211-B212-32D690AD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D804-C1E7-45EC-902D-19D491F0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22C84-85C8-4E7A-ACF9-F1715131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61841-E9E0-470B-879B-95B15723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AFA43-D9B5-4239-8D1B-42F1028E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8532F-E736-498B-95B7-BDECA9A7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BCE5E-E480-4329-888F-376C0D94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0C8A8-BB87-4D0B-9CF6-3F25A6B0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6406F-F684-4ECF-A0C4-3BF7E3E1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B486E-74C0-4EDF-A347-56903597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BF5C4-3684-4D8B-938C-9993E661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9D070-C6DB-43B1-BEE3-97A33940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75D0-1D0B-4FC2-BF24-D85087A5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D1D20-1814-4AC7-9105-6B871FD9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946CB-CF65-452D-A8C3-5A8D2FFD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A1FF9-3BDB-4189-8DCF-E56B711C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1650F-521B-4E08-973E-4E7A798D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118EF-2F5A-4779-BC54-B42051A9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EF396C-A63B-40AC-B8B0-9303A242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FFBDE-4888-4473-9735-01B6FC9B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AA2F6-F244-450D-82FA-C71FC633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8D964-47C3-4B98-9651-E8F71D3D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5073B-04FA-449C-B005-51C17E3A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F49F-0D1B-4CA3-A749-D5E62DEE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14D75-D4FC-4A84-B6D3-58C11C88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78A3D-309E-4BE0-A4AC-69DB55C4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9979C-120F-48D5-9337-1D24DE73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1597D-C850-4F68-94D6-FE71BF77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54F78-922F-4611-BD03-B405BDE9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17F87-DE2C-4159-89D5-5B3EF787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94663-BDAA-4912-9C48-32EBD552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010074-E2BA-4C71-8DB2-6F52D1B3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54748-4890-4BAA-B32A-F9EEABFC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BD0259-6369-4A3B-87B0-A68F06A8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0AA6-5907-4FF2-B2FA-E5532A00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F5058-7332-4E91-9258-9D0734C4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2DBFD-0F39-4D02-B5B5-DAD5ECB5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CCBD4-82F8-4A4A-B61F-CCB0F3D3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C7C05-D418-44A9-A47B-0122873F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7B5460-ECAF-40CA-9258-4BBF1C3F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D927AF-FDA8-4B09-9CE8-51452622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9F6454-141C-4BB8-8713-B059E158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F0D03-0D56-4104-B055-9B212378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49F9A-72C4-4E91-92B9-341555A2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9AA62-162A-4BEA-BBCB-0D4E4F08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6030-99C7-4A80-A0C0-AE6E9E81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FA2B1-3FEC-4834-8836-A6EF56D3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8EBF0-A372-4275-8EAA-97E7D395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8BAF7-632C-4268-BBE4-EB51A84A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24A04-51F9-4D3C-B918-B1F78608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F7BE1-CDE7-4F6F-BCD7-10003A61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84B51E-A559-4CC9-9727-F497B1FF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2A1F5-F3CF-4612-AA70-1A40D0FD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A3B448-6BD0-415B-8395-3739424C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4DF6C-6E7D-4A81-93C5-BD12E8F9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03D06E-4B13-43C0-BF11-FA6FF546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FCEF-4E60-4E81-A696-23EA8C31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CDC9A-F4AB-4C76-A919-F0B25765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D4BB9D-5B71-48C2-8DA2-D7123435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9B9E91-64F4-436C-A288-68480A5A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FF830F-8CE7-4932-97C9-54B9D1A9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FE4BD2-14AA-495B-AE21-02F3A384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A8289-3C51-4D2F-8163-D837CBB2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684A05-A6D2-440E-BD3E-4AFD0CC0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5A72D1-5EEC-4E3E-9347-E1C43811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2EDEC9-2AA1-4AE8-AD62-4923E662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92E56E-713C-49DF-A500-4556E848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7BDF-7AF0-4E57-AFFA-A552AF05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88EDEF-340E-4687-9A05-E4ED0AEF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7426A-ECD2-4D00-91F3-937FED7D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C5AF2-BC60-412E-BA0A-BE47277D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11E81-71F0-42C6-8152-233663AE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1D6C46-0F0D-404C-B72F-2C1F9535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BEAA6C-4F90-4E49-962B-F27E4876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CD73B6-C1C6-4E94-A7B4-A885C3F3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666F05-1028-4AEB-8530-41429396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98EAA7-0982-4743-86AC-F0CB9905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1210E0-EFEC-4AC7-9B82-A85DE8FE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117-DAE6-4827-89A2-9A439152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12A6-0A6E-4946-B024-DB538CA0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E5911-6B29-4AF6-A4B7-CE31EDB6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1B9B3C-4367-446D-9F9B-047F43E8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CB5E5-81A5-42D8-8BD5-52371928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F9A1D9-7EA7-4A94-8E8C-AD783842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D90F66-562C-4C18-8549-2E7625DA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741AAD-DDB0-4AD2-9765-FD97925D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2E120E-7686-4799-8E4F-EF2EEB99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A87D3B-127C-473F-8B62-0B223CD7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8D268B-5BFC-49C2-8E6E-D94A705A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D46DB0-26B4-483B-B3B7-16675040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77C4-7F3C-4FE1-907F-C78EB390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34B792-A88C-4B07-90B9-F35118FC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D5112-0DA8-4F2E-ADEB-A4A36329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C8358F-2C1D-4ADD-9ADA-5596D6F5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4B0D98-6E0D-4BE5-8BA7-F1D3FD95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51425F-329C-41F9-B363-A8CF80B6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2286C2-5ECD-48CB-BA56-B3D28C8B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AF8061-9830-4D94-BF30-D822F117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2D6C9A-20A1-4749-8D7C-CB997763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AAB7F2-6FD7-4571-979D-FEE512AA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E59371-58EC-4777-BF72-F0768D76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6D24-E185-4F0D-9A9F-F92A28D2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0CF164-6820-46EC-B81F-1371B42B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BA5FB7-330B-438B-8E85-1CE02444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FFB20C-8AF5-46F6-AB4D-551BD706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D0A03E-9D9A-4C47-9B88-7B5FF957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427B44-0FB9-4688-A13B-84FDBAD9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63BA5D-1F70-477E-8E68-4DC2BF1F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9B7842-425D-4205-93A9-72D0C83E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55E215-952D-4720-BC06-729D5DEF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28CB6F-BA37-4B4C-AB87-04F264D8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9F8075-B685-4766-BA5D-C8550B7D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C26D-966A-4880-A7D1-91C5395F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C6C9F6-6F55-4BD8-824D-187A73E3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3AD791-2130-494F-9FD3-44CB7E28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BC9595-2380-4BD6-A2C0-6FAF79EA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FB1E4B-F514-4C65-846A-CBA1BCE2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1E0447-9477-4632-A70F-BCCB9085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D96787-663F-4DE5-BA86-066B36E7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FEC25-20E9-4B74-93CE-806EBE7E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4529AE-BCC9-4641-A0B1-6B7999D4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0C3F9E-C327-4DC5-9680-6DD3947C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01B974-7129-435F-8572-E6B2B12C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3E01-64B9-43CC-A9C9-BE239918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AF4FFB-A81C-422C-939A-9BEA848D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F5214C-34B4-41BB-87D3-EDB5CE5C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C85C2B-ACBE-4C29-AAA4-1C7CE27D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C382D5-19A8-4392-AB0E-1A08703A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C346EE-B70F-4D07-BA81-1708D94F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80592B-C6EC-4846-A79B-3E49DDB3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0C7CDC-956C-4B37-8F6A-4DBD2C38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B97EF4-8A04-4C3A-8C06-39B9C93D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D85FE9-687B-4D14-A757-255B4825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F2DB3B-5DDC-4C55-A8D9-5BFBFAF6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B99D0-3035-4DF0-AEC2-C66AA9C5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1F7ED4-4889-4C64-A7D5-F14762D7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2EE718-9E9A-4432-AE6B-AC4B1243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C710EC-EFD8-483C-897F-36904301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98786A-1B5F-4FC8-B0CD-901CCBB9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5CF91F-1B30-4F33-A7C9-B1847FEE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4EB192-0BAB-484D-8F4C-1B1526A0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83A06F-A4C9-453A-8069-7F7BB310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C568B1-D60A-4884-9FC4-3E20E933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97698D-61D9-4B94-A499-97AABAF7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9266B2-67F3-4DF1-90FB-3525D9ED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6F906-7490-49E3-BDEF-E66116F6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158F68-FF73-448D-ADBB-C72A45CF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73B4BC-0150-49FB-9D82-F4E59666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AF9F11-1784-411E-874E-FBB837EA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4AFB77-BFEF-4841-B052-0C8A0FB6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C35F25-FE30-4EFA-995E-0E308BFD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E7BA3E-8E1F-4B48-93ED-5E4CE85F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D71DE1-CA36-4ADA-AF37-1D99047B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3EA771-F60F-4B56-8B1A-2B46AA98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4830F1-38BE-4976-B1C6-82819B6C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BA5417-07B8-4F79-861B-9AB044B9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57D5E-687A-473F-AE65-E5B44FCF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F222FB-B4A2-4D24-8EF7-1202D74E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D283DF-76EA-449B-A9CA-DB48806F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150325-C581-4467-90E4-A70AED51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555BC6-74A3-4D8F-A186-8E090943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6964AC-97AB-4339-B827-F4681854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2C5758-B288-4191-BF99-8A40CB36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AF7E3B-B5BD-47C7-B217-B3FF830D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49875-956D-44B7-B0B0-716CE72D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38E6B-31B4-4803-9B2B-E8718EB6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47D-5CAF-4A12-80CA-F103B0C1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1B7E1-3B29-49F4-BBCE-AAD9E163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6DE3-3A12-4B20-937E-C8B457E1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72DEB-7757-49B9-8E77-CD0685CA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7AA21-1D2F-42B9-ACA3-82F301BB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AFB41-9A07-455E-B9CC-19EF1911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28F91-A855-4833-8B91-88655B2D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41406-2C7D-46A4-B97E-8853ACE8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7B392-460C-41F9-B6F8-1EBE2D3D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826E3-B65B-49BC-84E6-F5216707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CF72A-B47A-4361-867B-CC9DFD22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DF6-34AA-48C7-B3DC-83E9A161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5AE62-A690-432D-8BAC-C6BFA789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42401-E04D-4606-8D67-37B2CF04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372B8-8A19-4F1B-B2AB-59D73BF1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D9EA9-3F25-4DA8-85FB-4B49C76C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4A720-7D54-4793-9EA5-3869A0AE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3CD9B-32F3-45D7-AB91-BB816F05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F6630-ACC0-4EED-81A8-5E5EC9DB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9A1E7-E68A-4801-8E59-6E107649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5CDB2-0684-43B2-95AC-9F27255D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36A48-5735-4071-A992-490AF370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A52-66D4-4DF1-A313-0AB7AF81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523C9-1E2B-4780-87A3-647429DA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15F93-BAAF-4FE6-80FB-2BD75B80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A1455-F6DD-4111-B514-C7161DA7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6AD14-604A-4267-B01E-88827B18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261C8-CF2F-403C-9C08-0E6BC341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81F31-A603-4EA5-A4DF-4C5F0445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A8098-7C0D-498D-B754-B59AEE61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65943-869F-4923-AE52-D9AD93C6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5FADE-8DF4-4FAC-97A8-9135EFE4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645B2-8C14-431A-BB07-8CB6FCB9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7D0-D6CE-460A-8AD8-5E2047F6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3E5E6-3FFA-414B-BCA4-4D2B4CCA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E9B67-A2B7-4A32-BB32-FB91EFBD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E11BD-47B2-4DC0-A1B0-C0FA8770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CE934-A7E0-413D-8E7E-F18885EE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52AAA-597A-4AE8-B050-5B107D3D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BB2C6-A680-4D3A-B2B8-1D4FF9CB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9F5A7-FD87-44A9-9AFC-2D332C15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8E58A-7D95-4CDB-9A27-34D78677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0AF56-9C4F-4A6E-9C6E-8E7F63E4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8D02C-59C6-4C14-948B-38C53F32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926-A3C5-4D04-BC07-99606196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412E8-614A-41EA-B71E-25EF3F57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39472-7B84-4A4C-818B-60BE847C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89A1C-6C08-4CE2-B92E-B55D1AB8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0CC24-AE07-4B67-BD01-5D3B5BA0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9DC36-6FE1-474A-A555-20D1DBFD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C1ECE-3A5E-4F91-8EAA-6B59BA54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4CB9B-C56A-4957-B836-B0A2ACEE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6639E-FEFD-44A0-B22F-70E32A34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A30BB-C8E8-47DB-89C7-A969A620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D10F2-B4B6-4619-89E3-F31D099F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675-0F44-4526-85F6-8BC00EEA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0BD7E-8BE6-455E-AE05-3A5455A3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01C4F-1DF4-4346-B983-614FF4F3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EC1EB-7B13-4E4C-BFF9-C9728144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67892-48B0-4F60-99F0-2F6CF7A3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DE9F5-98E3-4A51-B5F7-97461C3C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D36F1-0AE0-41E0-B92F-FF9DE28E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717E7-6B8A-42EF-B967-DD27AB40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DFF6C-8012-4855-85F7-E06528C3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8E16C-DA5F-4A53-985C-57651FDF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AC560-8B7B-4576-942F-748CFB4F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19B-5E64-44BA-8FE3-F1CB6BB2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41165-F3BB-42CD-BAAC-5D6D9AC7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3FE25-2523-4DEC-B2F7-E7DD12E1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ECB89-D710-4932-BED9-20763091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87838-F18C-494E-B456-C577E6C7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F8713-6EE0-4DE3-8BAD-953646F3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6A257-B379-4A90-B8EC-4A4EBCBF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17A16-BC78-4A09-873D-D5C1DC53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E8FDC-37CD-421E-A011-732A7EEB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C7D70-1C8A-42DF-AE7D-E794270B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099F4-2C9F-4781-A411-7D74779E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ADC7-5333-41A1-BA03-6B3AEA25A4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A56D-E941-43EB-BBB9-645C2BB0B3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E01D-ECDD-4D17-A9D2-C6C97E7D75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5D7F-705D-4866-9799-D7AE69911C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6AE6-F380-41E3-88C8-12AD8D1DEB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8CE8-A584-4D96-A537-499DE1D952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E2AF-4CC4-461A-84B2-376D869551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C587-1DD7-47E8-8DD0-3501C165E3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4018-8203-4655-8FBC-F7A1AE3C59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B8D2-3BF5-4609-A797-F9476191C4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817B-277A-459A-80F9-3F0B9C494E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D0CA-DB99-4B9F-9986-F7B74320CE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8045-3B7A-4AD3-AAA1-B999168ACD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BAE6-5B62-4AFC-8F6F-619A5490CE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70C4-4A08-4BD8-8EF3-8F8EE8B970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61AA-15C7-4791-8BED-BDAEBCBB5F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6679-035F-4799-8F5B-60181FD1FF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01B6-3E7B-4F83-9F7B-3CBD40B41F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5906-F175-40ED-8F9D-939D25197F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8685-27BF-4F3C-B5C9-0515779613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4650-4C7E-43C2-8C13-0610C50879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37D8-42DD-40ED-BA68-2291DFC152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37DF-7B9F-479C-9F18-FF2BCCC847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ADAA-3D96-419B-AEFF-7224175FDA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7DED-7626-4FBB-B7D9-30612C58CB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F545-B539-4A20-AD51-8F81950B9E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831D-A06F-4FD3-86CA-C1B91FC140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AFDF-F005-4BE2-BF5B-7E04C6992C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09B5-2621-4341-AAA3-3EDF2FF576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1A2E-80F0-4C2B-AD01-0E7C949BDF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D1F2-2076-449C-B10A-1B247C32A0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49D0-31B0-4209-88AE-11E22C0795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889C-2726-4836-9C22-82CA6FF9C2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C4F3-FCE4-4418-944E-0FD72433BF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FD26-7873-4297-8C85-CEB21CB300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DE51-A958-4F46-BAF8-8309527DD7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14CE-E653-486E-BEDA-69D791B8B0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EE36-34AB-46AE-BBED-B4DE6E026A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FC1F-4CEC-4B0F-A893-E8B1838B96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5F1C-5A44-4587-95C6-DAC1A3C2D9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8E82-363E-4F3D-B0DB-C24FA3C4DE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0095-1DCD-4DA4-9B84-F2C3F9D233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920960" y="3005280"/>
            <a:ext cx="580392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243000" y="1357200"/>
            <a:ext cx="8656560" cy="414360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4608360" cy="4064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900000" y="3759120"/>
            <a:ext cx="2808360" cy="4064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971640" y="4927680"/>
            <a:ext cx="936360" cy="4064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5"/>
          <a:stretch/>
        </p:blipFill>
        <p:spPr>
          <a:xfrm>
            <a:off x="2484360" y="4941720"/>
            <a:ext cx="13669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209520" y="1909800"/>
            <a:ext cx="8724960" cy="30384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611280" y="2549520"/>
            <a:ext cx="4608360" cy="4064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7164360" y="2549520"/>
            <a:ext cx="1440000" cy="4064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4"/>
          <a:stretch/>
        </p:blipFill>
        <p:spPr>
          <a:xfrm>
            <a:off x="1692360" y="3127320"/>
            <a:ext cx="934920" cy="4064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5"/>
          <a:stretch/>
        </p:blipFill>
        <p:spPr>
          <a:xfrm>
            <a:off x="1187280" y="4322880"/>
            <a:ext cx="26640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23920" y="776160"/>
            <a:ext cx="869472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209520" y="1400040"/>
            <a:ext cx="872496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200160" y="809640"/>
            <a:ext cx="87436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243000" y="1347840"/>
            <a:ext cx="86565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190440" y="744480"/>
            <a:ext cx="8763120" cy="5180040"/>
          </a:xfrm>
          <a:prstGeom prst="rect">
            <a:avLst/>
          </a:prstGeom>
          <a:ln w="0">
            <a:noFill/>
          </a:ln>
        </p:spPr>
      </p:pic>
      <p:pic>
        <p:nvPicPr>
          <p:cNvPr id="1112" name="图片 2" descr=""/>
          <p:cNvPicPr/>
          <p:nvPr/>
        </p:nvPicPr>
        <p:blipFill>
          <a:blip r:embed="rId2"/>
          <a:stretch/>
        </p:blipFill>
        <p:spPr>
          <a:xfrm>
            <a:off x="1835280" y="6018120"/>
            <a:ext cx="5362560" cy="533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3"/>
          <a:stretch/>
        </p:blipFill>
        <p:spPr>
          <a:xfrm>
            <a:off x="611280" y="256536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4"/>
          <a:stretch/>
        </p:blipFill>
        <p:spPr>
          <a:xfrm>
            <a:off x="611280" y="436572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622440" y="444600"/>
            <a:ext cx="7702560" cy="63309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900000" y="433440"/>
            <a:ext cx="505080" cy="4064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5050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图片 1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28958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5050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166680" y="666720"/>
            <a:ext cx="8809200" cy="58388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1763640" y="129708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4643280" y="2463840"/>
            <a:ext cx="1657440" cy="4064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2843280" y="3673440"/>
            <a:ext cx="1657440" cy="4064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2843280" y="4854600"/>
            <a:ext cx="1657440" cy="4064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1979640" y="6021360"/>
            <a:ext cx="6476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36:0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